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0AF-2D51-440E-B6B1-3F54A28D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EC7-4FED-4B00-AE65-4129712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91D-E328-42CD-A2F2-FC1DE09D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453-E34E-44F5-B0DA-BA34A34F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FC4-BC8C-48E4-A028-C5ECA8CD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B38-64CB-4C09-A822-F1560445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D1F-309D-4C43-9998-0254F3D0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F97-744E-413E-9C83-312A8EC8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F99-6CC3-444D-9E10-89BEE614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09B-F190-48AD-B8E9-9D63F35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3E9-2D76-4D0A-96E1-1957858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E96-A13A-4BB9-AC31-28F6514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FD5-877E-47BB-B2EA-E407A281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295280"/>
            <a:ext cx="60958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nformal Roman"/>
              </a:rPr>
              <a:t>Recycle Water Bottles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nformal Roman"/>
              <a:ea typeface="Informal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31120" y="4421160"/>
            <a:ext cx="1357200" cy="18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600200" cy="1390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71600" y="4038480"/>
            <a:ext cx="31240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43:08Z</dcterms:created>
  <dc:creator>mes5c</dc:creator>
  <dc:description/>
  <dc:language>en-US</dc:language>
  <cp:lastModifiedBy>mes5c</cp:lastModifiedBy>
  <dcterms:modified xsi:type="dcterms:W3CDTF">2011-02-03T13:16:17Z</dcterms:modified>
  <cp:revision>1</cp:revision>
  <dc:subject/>
  <dc:title>Slide 1</dc:title>
</cp:coreProperties>
</file>